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6D43-9C71-4A88-960B-E5F3A36E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D536-717F-4965-BB78-7F8C6C20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C89D-9240-4C21-8F64-3128B9A7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575-0956-4EC4-AA3B-AD94D1F5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F4E-28A9-43CB-BE63-0F342879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A21-D778-4F0F-96F4-69E75AED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7491-AF61-491C-98D1-A4936728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FE3-0841-4A41-9D69-175613BA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6B3-A799-4FE2-A486-F1FCC9BD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F26-1969-4FF4-993A-2DB51425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5FE0-D58F-4F73-9EB3-41B42E90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633A-7DFB-4E94-B57E-90519704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AD00-FAC1-4E23-9940-DC9C9580D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984635MkzJLmQBtT_ph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91320" y="304920"/>
            <a:ext cx="3047760" cy="86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رن صوتٌ في الأعالي يا تُرى ماذا الخب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ولم الأملاك تشدو بترانيم الظف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كلهم في المجد غنى بأناشيد السر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قد بدا أمر عجيب، رحمة الله الغفور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458854PUJPRwcavG_ph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5880" y="228600"/>
            <a:ext cx="3048120" cy="9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يها الرعاة هبوا وانظروا الرب المج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نه قد صار طفلاً باتضاع كالعب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مجدوه هللويا مجدوه في العل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مجدوه هللويا إنه فادي المل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62720" y="457200"/>
            <a:ext cx="3276360" cy="89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80"/>
                </a:solidFill>
                <a:latin typeface="Times New Roman"/>
                <a:cs typeface="Arabic Transparent"/>
              </a:rPr>
              <a:t>فعلى الأرض سلام وسرور للبش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80"/>
                </a:solidFill>
                <a:latin typeface="Times New Roman"/>
                <a:cs typeface="Arabic Transparent"/>
              </a:rPr>
              <a:t>إذ أتى الفادي المنجي والمسيح المنتظ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80"/>
                </a:solidFill>
                <a:latin typeface="Times New Roman"/>
                <a:cs typeface="Arabic Transparent"/>
              </a:rPr>
              <a:t>فليرن الصوت دوماً مع قياثر الذه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80"/>
                </a:solidFill>
                <a:latin typeface="Times New Roman"/>
                <a:cs typeface="Arabic Transparent"/>
              </a:rPr>
              <a:t>هللويا قد فدانا ولنا البرّ وَه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0:18:52Z</dcterms:created>
  <dc:creator>SUZANNE.MD</dc:creator>
  <dc:description/>
  <dc:language>en-US</dc:language>
  <cp:lastModifiedBy>USER</cp:lastModifiedBy>
  <dcterms:modified xsi:type="dcterms:W3CDTF">2002-12-19T11:12:11Z</dcterms:modified>
  <cp:revision>1</cp:revision>
  <dc:subject/>
  <dc:title>PowerPoint Presentation</dc:title>
</cp:coreProperties>
</file>